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5B7-05C4-429A-9B90-4CAEEA4B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9ED-2A9D-40BD-B955-28E880D5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A7A-7C27-4846-8E89-61641617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AE1-0BAC-4CAA-8DAD-407E20AD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F134-0554-4398-9AEB-130902F0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F808-2151-4268-A9D0-7CCA56DE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9F4F-CB4B-4BB3-9B7A-6422B6FA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EB6D-833D-4E21-801F-34FED3EA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7801-2D1A-418F-90E6-4CFAA29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C79-1C44-4AF8-B20E-7493FA7A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2BD-4926-425B-BCF7-877BC81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D0F-503A-4DBA-9678-938CB1D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1E44-0612-443A-8ED7-6DBC4C2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A1A6-57C2-4DA5-B3DE-05D7C9D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258-9205-4861-8240-9EDD4CA1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845-1308-49D2-A638-54E5E8C4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760C-6047-4697-AB52-9084A889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D24-7D34-47B0-BA7C-0E063F91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F97-D090-4E87-B1A5-17C6534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D78-50D3-49E7-A105-8FD6275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7F7-1C8A-4D11-A4AF-1A07A4F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6DF-688B-42CB-9103-B9BFDE0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4C2-AC08-4D56-B70E-0E40355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04F-ACE5-4098-B11F-04ACA0C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F69-D9D0-493B-9B48-483F94F4672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F28-F4CA-447A-A97C-0210A97D192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55640" y="549360"/>
            <a:ext cx="74134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акултет Медицинских Наука у Крагујев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сновне струковне студ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Предмет : Здравствена Не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ставна јединица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 БР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Здравствена нега оболелих од малигних болести (фактори ризика, процена општег ст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ф. Др Иван Чекерева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15152798.wav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714240" y="1714680"/>
            <a:ext cx="7715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ушење цигар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нзумирање жестоких алкохолних пи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лтраљубичасто зрачење из сунчевог спек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нзумирање масно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али унос воћа и поврћ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2560" y="1599840"/>
            <a:ext cx="8543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ложеност карциногенима на радном месту (ароматски амини, неорганска једињења, азбест, бензен, једињења хрома ..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агађење околине (загађеност ваздуха, воде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ложеност јонизујућем зрачењ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ков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нкогени вируси - вирус хепатитиса Б, вирус ЕпстеинБарр, ХИВ, хумани папилом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ска предиспози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206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ЈА ЈЕ УЛОГА МЕДИЦИНСКЕ СЕСТРЕ У НЕ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СНИКА ОБОЛЕЛОГ ОД МАЛИГНЕ БОЛЕ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 је започети функционисање појединца и утврдити његове проблеме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психолошке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физичке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оцијалне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духовн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rasce zdravstvenog (psihofizičkog) funkcionisan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arnofsky ska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OG skal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NM klasifikaci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54288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цепција властитог здравственог стања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рана - метаболизам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лиминација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ности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 - одмор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нзорне и когнитивне функције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цепција самога себе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ога и односи са другима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ксуална активност и репродукција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очавање и толеранција на стрес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 вредности и ставови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зикални преглед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1857240"/>
          <a:ext cx="8229600" cy="4791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днос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 наводи тегобе, нема знакове боле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пособан 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рмална активност, није потребна посебна не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же обављ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акодневне активности, присутни минимални знакови и / или симптоми боле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же да обавља свакодневне активности, али се јављају умор, присутни су знаци и симптоми боле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76280" y="11592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28760" y="1341360"/>
          <a:ext cx="8229600" cy="5765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67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днос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рине сам о себи, не може обављати свакодневне активности или активно ради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)Није способан за посао, способан је да живи код кућ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сник се сланица за већину сопствених потреба.Потребан различит степен помоћ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ремено потребна помоћ, али може самостално задовољити већину својих потре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тева значајну помоћ и повређено медицинске интервен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Oval 1"/>
          <p:cNvSpPr/>
          <p:nvPr/>
        </p:nvSpPr>
        <p:spPr>
          <a:xfrm>
            <a:off x="468360" y="5943600"/>
            <a:ext cx="122724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542880" y="-31752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00000" y="1125360"/>
          <a:ext cx="7437600" cy="5589720"/>
        </p:xfrm>
        <a:graphic>
          <a:graphicData uri="http://schemas.openxmlformats.org/drawingml/2006/table">
            <a:tbl>
              <a:tblPr/>
              <a:tblGrid>
                <a:gridCol w="2452680"/>
                <a:gridCol w="2505240"/>
                <a:gridCol w="2479680"/>
              </a:tblGrid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дн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неспособљен, захтева посебну медицинску помоћ и нег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)  Неспособан да се саламури о себи, потребна је хоспитализација или нега у стационарној установи. Болест може брзо напредова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шко онеспособљен, потребна хоспитализација, али смрт није прети непосредн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ло тешко стање, потребна је хоспитализација, могућ летални исхо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ло тешко стање, фатална прогресија болести (умирући болесник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00040" y="1643040"/>
          <a:ext cx="8229600" cy="472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њ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sr-R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и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рмална активнос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сутност симптома, али покрет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постељи мање од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9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 постељи више од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50%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9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зан за постељ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18" name="Oval 4"/>
          <p:cNvSpPr/>
          <p:nvPr/>
        </p:nvSpPr>
        <p:spPr>
          <a:xfrm>
            <a:off x="539640" y="4818240"/>
            <a:ext cx="12258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092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Након болести срца и крвних судоа, малигни тумори по учесатлости други узрок смрти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0" y="285840"/>
            <a:ext cx="8931240" cy="114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7892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ве (нормалне) реакције на сазнање о болестима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к, невериц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 од патњи, бо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 од могуће смр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љутња и жал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МИСТИЧНИ ПАЦИЈЕНТИ И ПАЦИЈЕНТИ КОЈИ СЕ НАДАЈУ ДА ЋЕ ОЗДРАВИТИ УСПЕШНИЈЕ ПОДНОСЕ ПРОЦЕС ЛЕЧЕЊА И ОПОРАВКА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Делиријум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ан чинилац у навикавању пацијента на малигну болест, битан чинилац у пацијентовом прилагођавању на малигну болес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а комуникација међу члановима породице - важно је да чланови породице искажу страхове, забринутост, анксиозност и очекивања везана за малигну болест како би се смањила напетост унутар породиц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огућити оболелој особи да се суделује у активностима колико може и жели, пружање помоћи у активностима које је пре обављала, тренутно не мож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укација и укључивање чланова породице у пружање помоћи оболелу при задовољавању основних људских потреба (купање, храњење…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мањена могућност бриге о себ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мањено подношење напор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 за настанак очувања слузнице усне шупљин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мањен унос хран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 за оштедење кож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 за настанак инфекциј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телесног изгледа - алопеција, колостома, илеостома, нефростом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 за настанак крваре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чнина, повраћ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прес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 за поремећај сексуалних   функ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-28584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лазан или трајни губитак кос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 и дужина трајања зависи од дозе и дужине давања лек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1" name="Picture 2" descr="http://2.bp.blogspot.com/-9nF-WcG8r9k/TZMF-eJflkI/AAAAAAAAIIE/5bnSqKYSf2A/s1600/A%2Buniversalis.jpg"/>
          <p:cNvPicPr/>
          <p:nvPr/>
        </p:nvPicPr>
        <p:blipFill>
          <a:blip r:embed="rId2"/>
          <a:stretch/>
        </p:blipFill>
        <p:spPr>
          <a:xfrm>
            <a:off x="5143680" y="100008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авестити болесника на почетку, степену и трајању губитка косе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учите болесника и чланове породице о нези власишта како би се смањио губитак косе и како би се заштитила коса која почиње расти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речити или смањити губитак косе хипотермијом скалпе (15 минута пре и 30 минута после терапије), применом еластичног завоја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отребљавати благе шампоне и регенераторе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бегавати употребу фена за сушење косе, претерано чешљање и четкање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е се ставити мрежица за косу да се смањи испадање косе, носити шешир, мараму, шал, турбан, одабрати прикладну перику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1600200"/>
            <a:ext cx="971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е јавља уртикарија, хиперпигментациј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на сунце, хиперкератоза, улцерациј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енције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ње болесника о могућностима појаве кожних промен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 је избегавати директно излагање коже сунцу - акутне опекотине могу се јавити и након краткотрајног улагања сунцу, заштитити озраче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одручје од сунц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аштитити озрачено подручје од ветра и хладноћ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5840" y="1600200"/>
            <a:ext cx="92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ти примену хладних или топлих средстава на промењеном или озраченом подручју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ти инвазивне захвате на озраченом подручју, подручје захваћеном променадом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ти кожу млаком водом, неутралним сапунима и купкама, носити памучну удобну одећу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ати ознаке које означавају подручје зрачења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месту зрачења по потреби применити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ну крему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Picture 2" descr="File:Hand-foot Syndrome.jpg"/>
          <p:cNvPicPr/>
          <p:nvPr/>
        </p:nvPicPr>
        <p:blipFill>
          <a:blip r:embed="rId2"/>
          <a:stretch/>
        </p:blipFill>
        <p:spPr>
          <a:xfrm>
            <a:off x="642960" y="1143000"/>
            <a:ext cx="7620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547640" y="1989000"/>
          <a:ext cx="6264360" cy="4064040"/>
        </p:xfrm>
        <a:graphic>
          <a:graphicData uri="http://schemas.openxmlformats.org/drawingml/2006/table">
            <a:tbl>
              <a:tblPr/>
              <a:tblGrid>
                <a:gridCol w="3013200"/>
                <a:gridCol w="325116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е</a:t>
                      </a:r>
                      <a:r>
                        <a:rPr b="1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шкарц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ј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ућ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лић матер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уда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бело цре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505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очити и препознат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менити ординирану терапиј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дуковати болеснике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избегавати уску одећ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избегавајте контакт са грубом тканином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избегавање излагања сунц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избегавати пливање у базенима са сланом, хлорисаном водом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не стављати пудере, блиставе на оштећено мест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не бријати оштећено место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ати зубе меканом четкицом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ирати усну дупљу „антисептичким растворима“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гледати стање усне дупље и уочавати промене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њивати антигљивичну терапиј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ти храну која иритира, која може изазвати трауме усне дупљ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зумирати 2000 мл течности током дана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50920" y="1071360"/>
            <a:ext cx="9074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Еритем, инфламација, улцерација и хеморагија уста и гр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7" name="Picture 10" descr="2005Fig2"/>
          <p:cNvPicPr/>
          <p:nvPr/>
        </p:nvPicPr>
        <p:blipFill>
          <a:blip r:embed="rId2">
            <a:lum bright="8000"/>
          </a:blip>
          <a:srcRect l="61291" t="26105" r="6496" b="27501"/>
          <a:stretch/>
        </p:blipFill>
        <p:spPr>
          <a:xfrm>
            <a:off x="1643040" y="2143080"/>
            <a:ext cx="6215040" cy="414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68360" y="1267920"/>
            <a:ext cx="81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трола крвне слике број тромбоцита, хемоглобина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атрати стање пацијента и уочити промене које указују на крварење - петехије, екхимозе, модрице, крв у излучевинама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дуковати болесника о знаковима крварења и важности раног уочавања крварења (петехије, екхимозе, модрице), важности спречавања трауме, потреби да се јави лекару ако је крварење јачег интензитета и не престаје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тити појаву продуженог крварења из малих посекотина или огреботина, појаву крварења из усних шупљина, носа, вагине, ректума, уретре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ржавати интегритет коже и слузнице усне шупљине, слузнице гастроинтестиналног тракта, слузнице горњег респираторног тракта, урогениталног тракта,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2" descr="http://upload.wikimedia.org/wikipedia/commons/d/d8/Hematoma_Feb_07.jpg"/>
          <p:cNvPicPr/>
          <p:nvPr/>
        </p:nvPicPr>
        <p:blipFill>
          <a:blip r:embed="rId1"/>
          <a:stretch/>
        </p:blipFill>
        <p:spPr>
          <a:xfrm>
            <a:off x="155520" y="-6751800"/>
            <a:ext cx="10077480" cy="14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ти болесника и уочити знакове инфекције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рити температуру 2к дневно, у случају пораста температуре изнад 37,5 ° Ц свака два сата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ти пацијенте и уочити промене у функцији респираторног, урогениталног и дигестивног тракт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жно је одржавати интегритет коже и слузнице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ржавати добру личну хигијену, хигијену слузокоже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не шупљине, одржати и интегритет службе дебелог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рева (избегавати клизме, ректалне топломере јер се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о јављају перианални апсцеси)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игурати оптималан начин исхране - високопротеинска и висококалоричн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држава се асептичних метода рада код свих поступака у раду око пацијента, а посебно у случају приме уринарног катетера, при венепункцији и постављању интравенозних канила, при нези пацијента са постављеним централним венским катетером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д неге прво преговарати о болесницима са неутропенијом, а затим о осталим болесницима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потреби изоловати болесника и сместити га у стерилну јединицу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0" y="1599840"/>
            <a:ext cx="896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арање костне сржи и недовољно стварањ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так медицинске сестре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упутити болесника да се одма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избегавати теже напор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проводити активне вежб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проводити ритам активности и одмарањ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узимати храну која задовољава болесникове потреб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6840" y="1599840"/>
            <a:ext cx="8543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учнина (мучнина) осећа се који често претходи повратк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враћање (повраћање) је снажно избацивање садржаја желуца, дванаестопалачног црева и јејунума кроз усну дупљ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4360" y="54936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МУЧНИНА И ПОВРАЋ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68360" y="1773360"/>
            <a:ext cx="777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УЗРОЦ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А) МАЛИГНА 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ректни утицај:               индиректни утицај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гастростаза                     - ст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опструкција црева          - каша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хепатомегалија               - опстип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ас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повишени ИК притис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хипекалце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ренална, хепатична инсуфициј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285840" y="6048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Arial"/>
                <a:ea typeface="Arial"/>
              </a:rPr>
              <a:t>Наука о малигним болестима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Интердисциплинарно подручје осталих научних дисциплина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тик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атологиј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Цитологиј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гиј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уклеране медицин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јацијске физик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е експерименталне и клиничке медицин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476280"/>
            <a:ext cx="84582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Узроци мучнине и повраћ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         C) 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Коморбидите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емиотерап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Функционална диспепс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Радиотерап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ептички улк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опиоид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NSAID,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Болести бубрега, јетр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препарати гвожђ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етоацид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ардиотониц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итуациони узроци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хра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сна дупљ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?), 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фекције, емоционални стре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цијенту треба најавити могућност појаве мучина и повратка, али треба му и рећи да се мучина и повраћање не јављају увек и код свих особ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и антиеметике како је прописано (Реглан, Зофран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ок узети 3-4 сата пре терапије, а након те лагане оброк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мање хладне хране или оне која се служи на собној температури - лакше се подноси него топла или врућа храна, има слабији мирис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мање киселе хран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мање течне, дијеталне хране која смањује мучину-сок од јабуке, лимунад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слатке, масне, јако зачињене и засољене хране као и храна са јаким мирисим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јаких парфема, мириса, призора и звукова који могу потакнути мучин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павање за време док мучнина траје или се очекуј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повратка праћења када се јављају, бележе унос и висину степена одржавања, одржавају негу усне шупљине, помажу пацијентима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71360" y="1500120"/>
            <a:ext cx="89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промене: петехије, модрице, алопеција, кушингоидни изглед, окртавање за зрачење, мастектомија, илеостома, колостома, нефростома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дуковати оболелог о могућим последицама лечења како ће ублажити те последице, колико ће један трајати (ако су пролазне) и како умањити видљивост појединих последица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кључивање оболега у групе самопомоћи особа лечених од малигних болести (нпр. Клуб жена оперисаних на дојци, Клуб особа са колостомом, илеостомом И уростомом, Клуб особа са ларингостомом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ришћење протетских и ортотских помагала (нпр. Вештачка дојка -силиконску или памучну, перике, говорни уређај и сл.)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-1000080" y="-1047600"/>
            <a:ext cx="11088720" cy="2193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85840" y="1643040"/>
            <a:ext cx="92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њене ћелије које показују неправилан и прогресивни ра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ноза болести је врло озбиљ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ток, повећање органа, ткива, делова тел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бениг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доброћуд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иг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злоћудни</a:t>
            </a:r>
            <a:r>
              <a:rPr b="0" lang="sr-Latn-C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571680"/>
          <a:ext cx="8064360" cy="7026120"/>
        </p:xfrm>
        <a:graphic>
          <a:graphicData uri="http://schemas.openxmlformats.org/drawingml/2006/table">
            <a:tbl>
              <a:tblPr/>
              <a:tblGrid>
                <a:gridCol w="3095640"/>
                <a:gridCol w="2448000"/>
                <a:gridCol w="2520720"/>
              </a:tblGrid>
              <a:tr h="81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K</a:t>
                      </a:r>
                      <a:r>
                        <a:rPr b="0" lang="sr-R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арактеристи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Бениг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Малиг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р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енцијација ћелиј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бра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0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ни р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R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кспанзив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илтративан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ире у околна ткив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аурењ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су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 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зарање тки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знат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ко израже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аста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сто присут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циди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ло ч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хексиј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-360" y="1071720"/>
            <a:ext cx="1021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цес дуготрајних промена у организму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1. као последица спољашњих канцерогених чинилаца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хемијски, физички, механички, вируси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о последица промена у генима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Ћелије са новим биолошким особинама - малигни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фенотип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Деобом тих ћелија стварају се потомци који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стварају туморку мас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ове ћелије су специфичне због неконтролисан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деобе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о настале промене које нису у додиру са примарним тумором и налазе се у удаљеним ткивим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ИРЕЊЕ ТУМО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МФОГЕ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ЕМАТОГЕ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континуирано у околна ткива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26960" y="-285840"/>
            <a:ext cx="8229600" cy="114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57120" y="78588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2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Аденоми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(доброћудни тумори, грађени од диференцираних ћелија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(малигни тумор епителног ткива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 ин ситу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(туморска творевина у самом почетку свог развоја, микроскопске дебљине, налази се само у епителном слоју, може се потпуно хируршки одстранити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Сарком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(тумори који настају из мезенхима, малигни тумори везивног ткива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Папиломи </a:t>
            </a:r>
            <a:r>
              <a:rPr b="1" lang="sr-RS" sz="2000" spc="-1" strike="noStrike">
                <a:solidFill>
                  <a:srgbClr val="ffffff"/>
                </a:solidFill>
                <a:latin typeface="Arial"/>
                <a:ea typeface="Arial"/>
              </a:rPr>
              <a:t>- доброћудни епителни тумори, ресичасте творевин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5:50:06Z</dcterms:created>
  <dc:creator>User</dc:creator>
  <dc:description/>
  <dc:language>en-US</dc:language>
  <cp:lastModifiedBy>Marija</cp:lastModifiedBy>
  <dcterms:modified xsi:type="dcterms:W3CDTF">2021-01-15T11:28:34Z</dcterms:modified>
  <cp:revision>125</cp:revision>
  <dc:subject/>
  <dc:title>• Здравствена нега у спречавању малигних оболења, фактори ризика.• Програми за спречавање појаве и рано откривање малигних болести.</dc:title>
</cp:coreProperties>
</file>